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345-5554-48AD-AE08-5C60DB36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AC9F-9683-4677-96BE-640E9D57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3B03-85EC-4617-AE8D-BACD9FC2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238F-C32B-49D8-B7CD-E3A1E123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1BE-D70A-4DB9-A78B-E054B9EE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85B1-B161-4DB5-9137-2B787080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354F-7613-4D25-9D14-0142CE35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F2B9-464D-4CF8-B729-DF3A3EEC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0793-4127-4020-80A3-CEAAECF4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CF3E-EB33-4B48-BF5C-02925479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273D-7C97-4F82-BE25-6D1B0C20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9C7-05A8-4230-8830-B7E93CBB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4CFB-2D71-47A4-A0F6-3D7CEC73E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7:35:01Z</dcterms:created>
  <dc:creator>abeason</dc:creator>
  <dc:description/>
  <dc:language>en-US</dc:language>
  <cp:lastModifiedBy>abeason</cp:lastModifiedBy>
  <dcterms:modified xsi:type="dcterms:W3CDTF">2008-10-27T17:35:06Z</dcterms:modified>
  <cp:revision>1</cp:revision>
  <dc:subject/>
  <dc:title>Slide 1</dc:title>
</cp:coreProperties>
</file>